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BC0-C0F1-4152-8F57-CE4928EA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863-0301-484C-B7A6-77F07798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270-3121-40EB-B0CE-1201A186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8D4-5145-4338-9654-92812B25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018-388E-43E1-8138-A7E3F0FB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530-F016-4FBA-9126-A37DB270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656-0333-4EF1-93F7-6D526A08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102-3DC9-4E0B-A079-DA1FED55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44C-D6B6-4540-84E6-86D25969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F40-4ADB-4B9E-AFA3-7C0764CA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2D7-9389-4A24-B6EB-246CCC56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AFE-15E5-4EE8-8C2F-52EB5F8C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921A-D065-442A-8A71-D44187027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USSIA’S  EC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llessandra Toscanini and Dar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PRODUCED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to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b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Manufactu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. Petersburg is a shipbuilding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st manufacturing centers are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actories focus on heavy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me factories switched to light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actories in St. Petersburg make light machinery, textiles, and scientific and 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SCOW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cow is the country’s economic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making goods such as machinery, mining equipment, and 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industries include textiles, electrical equipment, and automo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factories make more consumer goods, or household and electronics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2:05Z</dcterms:created>
  <dc:creator> </dc:creator>
  <dc:description/>
  <dc:language>en-US</dc:language>
  <cp:lastModifiedBy> </cp:lastModifiedBy>
  <dcterms:modified xsi:type="dcterms:W3CDTF">2010-12-14T14:23:23Z</dcterms:modified>
  <cp:revision>2</cp:revision>
  <dc:subject/>
  <dc:title>RUSSIA’S  ECONOMY</dc:title>
</cp:coreProperties>
</file>